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BBC39-2305-4C5D-B749-1B94A70E8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3BEDC-4893-4D46-ABE7-3EE04C7EA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C8298-C11F-4A1C-9CBD-865DD14EC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34388-0894-40A7-8E0A-1430F1B77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5F54D-B2BE-4BCA-9E73-A4B7F35AD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29240-5B72-4A77-83CF-EF1103EB2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8A516-7D8B-4614-8B4E-146C9FDE6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4A45E-3256-4F77-A6BC-089AA5125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6B0D3-B031-4706-91BE-11C0FCC08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36F3E-A46F-42F0-A6DC-CC9ED3BF4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14785-F95B-4F18-B402-676BC665F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31B4A-1613-4AC3-913E-F8515FAED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9FC2F-2931-4B40-AB19-F106BE83F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72F41-466D-4871-8343-235896996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81D14-B376-4A3E-A052-28C6B7939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3FC05-79E3-43BF-90FF-4A06B0E58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F3924-28B6-457E-890C-9662CE472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BA9D03-0585-4F01-BD2A-5EA70021D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21D078-0D52-4FE8-AB8F-EBEF8DCC4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76880E-67E0-4116-8F68-9709A118B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60D3D8-FD1A-4C80-A746-22E3071BC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231BE1-3D34-4064-994B-3B020830F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8E377-A999-4774-BCA1-470B526A8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B801BC-A307-4CC9-A6F1-BF8568844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6EC690-C709-41DE-9AB5-0320ABB2D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69F26A-6970-4CA5-8914-DD9C427B4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F3891C-94D9-4087-BC48-3E0C3FD3B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FCF8C8-9360-4047-980A-900EF83C9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5689AA-F7B7-4408-BFCE-4AD7D6DB2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3B33A9-81B7-4890-AAC5-53945AF2F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9293DB-1956-4694-960F-8610524B8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CB1E91-9280-4E9D-90AF-F068DDE53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DBFA74-7FE4-4E98-A2DD-2390776C6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CCB7D-CBAF-49D3-9598-05E24B5EF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D5E2CC-ED63-4323-9A45-B68EF25B0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3A8D8B-D6BE-4296-8355-3E355F79C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FD3B49-6B96-4EE4-85DF-EE09FDFBD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ABDF51-9736-47C1-A100-68C1D9A22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8D039A-0F84-4138-973A-5C4249E92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4A20D1-CEA5-4FB9-9CBE-2AE795711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AB8C88-640E-41DC-B5C1-F98A7AF36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EBC3CC-A39D-4934-8678-E08C754D7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D8D8C9-9818-4E3F-9E88-65FAC2770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8046DE-467D-4AD2-93CE-D9CB7F6FA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F46B9-52DB-48BE-A161-AE5D76990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AEDC54-3676-492F-8FC5-0562F5969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24B8F2-F829-4460-9C6A-B863CDDF7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123D8E-A716-47D0-8F70-C18167745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7ECEB1-91CC-4E0F-B7F5-6D99A591C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846609-9FD8-49AD-AC15-58D61EA09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7B97E7-1275-428A-A4BE-8116A8842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FD0778-A1B8-4766-BF97-628A5A217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19CF09-7877-482B-9238-A48092DB6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D3DC2A-043D-4228-A676-243AF151D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9976DF-D2A9-4895-B88A-960B17530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8F8E2-5FBC-4039-AF4B-ADAB87D34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2D31C6-ECD3-47F6-B959-D94EE2988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92EF92-B8B6-4DD9-B0DC-A60D3F584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22B5CC-914A-46D1-B436-A8172F5F1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D672B8-A729-42BB-9D93-E50EE070E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D5044F-8034-4CC2-B50A-B3F972DB8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9DF755-C88D-4F8A-B7D4-90D228C5E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135060-73EC-4CAC-94A8-2BFF8440D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EF479E-DE38-42AD-AA42-06E5FB961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9C1072-93BB-42CF-A9F3-2BBABF950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E18974-66FE-48CA-8704-E45EB8C0C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2A22A-75F9-420D-937F-03AB3216C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51EC3B-199B-43F1-A9A3-81BC3EFD5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BDFEB2-AC20-4C62-8DAD-A45CA441B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ED1A75-DDEF-48F7-BA44-2D762621A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0AFD37-23A5-413D-8C18-5670E47B6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DF3ABA-F7ED-4DBE-AE4B-D2568FD28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8AF365-506D-4350-9AB4-3754BEF5E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DE80B0-2F6B-408F-B616-CC21C371A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F3856A-199C-45A3-8EE6-20C145802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B161AE-EC08-49AC-9471-18A4154B9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8EDD83-D8D9-4C03-BFFB-DD7FC7377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AAA43-D92F-4711-A7DA-60276BBBD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DC8FB0-1C76-48A0-A411-127FEDB26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C00AAE-931F-4FEE-9E7E-0AB1A282C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9958EF-4E5B-4E9A-9571-B21913A45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E54DE8-01D1-4437-A256-869552327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66BEF2-262E-4091-A350-DF35FB5B6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5BFB6-3E45-48C0-897D-E0AF80C35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73e87"/>
                </a:solidFill>
                <a:latin typeface="Times New Roman"/>
                <a:ea typeface="標楷體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73e87"/>
                </a:solidFill>
                <a:latin typeface="Times New Roman"/>
                <a:ea typeface="標楷體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73e87"/>
                </a:solidFill>
                <a:latin typeface="Times New Roman"/>
                <a:ea typeface="標楷體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9D407-E27E-4101-941E-8B1AC89BC37A}" type="slidenum">
              <a:rPr b="0" lang="zh-TW" sz="1000" spc="-1" strike="noStrike">
                <a:solidFill>
                  <a:srgbClr val="073e87"/>
                </a:solidFill>
                <a:latin typeface="Times New Roman"/>
                <a:ea typeface="標楷體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73e87"/>
                </a:solidFill>
                <a:latin typeface="Times New Roman"/>
                <a:ea typeface="標楷體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73e87"/>
                </a:solidFill>
                <a:latin typeface="Times New Roman"/>
                <a:ea typeface="標楷體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73e87"/>
                </a:solidFill>
                <a:latin typeface="Times New Roman"/>
                <a:ea typeface="標楷體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522A7-49C7-4722-BE47-9E5CD1F83E12}" type="slidenum">
              <a:rPr b="0" lang="zh-TW" sz="1000" spc="-1" strike="noStrike">
                <a:solidFill>
                  <a:srgbClr val="073e87"/>
                </a:solidFill>
                <a:latin typeface="Times New Roman"/>
                <a:ea typeface="標楷體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73e87"/>
                </a:solidFill>
                <a:latin typeface="Times New Roman"/>
                <a:ea typeface="標楷體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73e87"/>
                </a:solidFill>
                <a:latin typeface="Times New Roman"/>
                <a:ea typeface="標楷體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73e87"/>
                </a:solidFill>
                <a:latin typeface="Times New Roman"/>
                <a:ea typeface="標楷體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D6771-E956-445E-A1CE-B1C78AF111E2}" type="slidenum">
              <a:rPr b="0" lang="zh-TW" sz="1000" spc="-1" strike="noStrike">
                <a:solidFill>
                  <a:srgbClr val="073e87"/>
                </a:solidFill>
                <a:latin typeface="Times New Roman"/>
                <a:ea typeface="標楷體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73e87"/>
                </a:solidFill>
                <a:latin typeface="Times New Roman"/>
                <a:ea typeface="標楷體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73e87"/>
                </a:solidFill>
                <a:latin typeface="Times New Roman"/>
                <a:ea typeface="標楷體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73e87"/>
                </a:solidFill>
                <a:latin typeface="Times New Roman"/>
                <a:ea typeface="標楷體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3EABC-7B68-4D67-B7B9-59A60C06EA97}" type="slidenum">
              <a:rPr b="0" lang="zh-TW" sz="1000" spc="-1" strike="noStrike">
                <a:solidFill>
                  <a:srgbClr val="073e87"/>
                </a:solidFill>
                <a:latin typeface="Times New Roman"/>
                <a:ea typeface="標楷體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73e87"/>
                </a:solidFill>
                <a:latin typeface="Times New Roman"/>
                <a:ea typeface="標楷體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73e87"/>
                </a:solidFill>
                <a:latin typeface="Times New Roman"/>
                <a:ea typeface="標楷體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73e87"/>
                </a:solidFill>
                <a:latin typeface="Times New Roman"/>
                <a:ea typeface="標楷體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19273-42DD-4DAB-8C5C-3A8622F958CF}" type="slidenum">
              <a:rPr b="0" lang="zh-TW" sz="1000" spc="-1" strike="noStrike">
                <a:solidFill>
                  <a:srgbClr val="073e87"/>
                </a:solidFill>
                <a:latin typeface="Times New Roman"/>
                <a:ea typeface="標楷體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73e87"/>
                </a:solidFill>
                <a:latin typeface="Times New Roman"/>
                <a:ea typeface="標楷體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73e87"/>
                </a:solidFill>
                <a:latin typeface="Times New Roman"/>
                <a:ea typeface="標楷體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73e87"/>
                </a:solidFill>
                <a:latin typeface="Times New Roman"/>
                <a:ea typeface="標楷體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25965-191D-468D-A024-41DDA248EFDF}" type="slidenum">
              <a:rPr b="0" lang="zh-TW" sz="1000" spc="-1" strike="noStrike">
                <a:solidFill>
                  <a:srgbClr val="073e87"/>
                </a:solidFill>
                <a:latin typeface="Times New Roman"/>
                <a:ea typeface="標楷體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73e87"/>
                </a:solidFill>
                <a:latin typeface="Times New Roman"/>
                <a:ea typeface="標楷體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73e87"/>
                </a:solidFill>
                <a:latin typeface="Times New Roman"/>
                <a:ea typeface="標楷體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73e87"/>
                </a:solidFill>
                <a:latin typeface="Times New Roman"/>
                <a:ea typeface="標楷體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57A96-46AB-4376-AE94-B84CD5B718E9}" type="slidenum">
              <a:rPr b="0" lang="zh-TW" sz="1000" spc="-1" strike="noStrike">
                <a:solidFill>
                  <a:srgbClr val="073e87"/>
                </a:solidFill>
                <a:latin typeface="Times New Roman"/>
                <a:ea typeface="標楷體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24000" y="333360"/>
            <a:ext cx="8712000" cy="15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Candara"/>
              </a:rPr>
              <a:t>新北市立金山高中</a:t>
            </a:r>
            <a:r>
              <a:rPr b="0" lang="en-US" sz="4000" spc="-1" strike="noStrike">
                <a:solidFill>
                  <a:srgbClr val="000000"/>
                </a:solidFill>
                <a:latin typeface="標楷體"/>
              </a:rPr>
              <a:t>103</a:t>
            </a:r>
            <a:r>
              <a:rPr b="0" lang="zh-TW" sz="4000" spc="-1" strike="noStrike">
                <a:solidFill>
                  <a:srgbClr val="000000"/>
                </a:solidFill>
                <a:latin typeface="標楷體"/>
              </a:rPr>
              <a:t>年</a:t>
            </a:r>
            <a:r>
              <a:rPr b="0" lang="zh-TW" sz="4000" spc="-1" strike="noStrike">
                <a:solidFill>
                  <a:srgbClr val="000000"/>
                </a:solidFill>
                <a:latin typeface="Candara"/>
              </a:rPr>
              <a:t>校務會議學務處提案</a:t>
            </a:r>
            <a:r>
              <a:rPr b="0" lang="en-US" sz="4000" spc="-1" strike="noStrike">
                <a:solidFill>
                  <a:srgbClr val="000000"/>
                </a:solidFill>
                <a:latin typeface="Candara"/>
              </a:rPr>
              <a:t>1</a:t>
            </a:r>
            <a:r>
              <a:rPr b="0" lang="zh-TW" sz="4000" spc="-1" strike="noStrike">
                <a:solidFill>
                  <a:srgbClr val="000000"/>
                </a:solidFill>
                <a:latin typeface="Candara"/>
              </a:rPr>
              <a:t>─</a:t>
            </a:r>
            <a:r>
              <a:rPr b="1" lang="zh-TW" sz="4000" spc="-1" strike="noStrike">
                <a:solidFill>
                  <a:srgbClr val="000000"/>
                </a:solidFill>
                <a:latin typeface="Candara"/>
              </a:rPr>
              <a:t>學生獎懲實施規定</a:t>
            </a:r>
            <a:r>
              <a:rPr b="1" lang="en-US" sz="4000" spc="-1" strike="noStrike">
                <a:solidFill>
                  <a:srgbClr val="000000"/>
                </a:solidFill>
                <a:latin typeface="Candara"/>
              </a:rPr>
              <a:t>〈</a:t>
            </a:r>
            <a:r>
              <a:rPr b="1" lang="zh-TW" sz="4000" spc="-1" strike="noStrike">
                <a:solidFill>
                  <a:srgbClr val="000000"/>
                </a:solidFill>
                <a:latin typeface="Candara"/>
              </a:rPr>
              <a:t>草案</a:t>
            </a:r>
            <a:r>
              <a:rPr b="1" lang="en-US" sz="4000" spc="-1" strike="noStrike">
                <a:solidFill>
                  <a:srgbClr val="000000"/>
                </a:solidFill>
                <a:latin typeface="Candara"/>
              </a:rPr>
              <a:t>〉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395280" y="2565000"/>
            <a:ext cx="8569440" cy="38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一、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本規定依新北市國民中學及高級中等學校學生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         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獎懲實施要點第五點第七項規定訂定之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二、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新北市立金山高級中等學校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(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以下簡稱本校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)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為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         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鼓勵學校學生優良表現，得採取下列獎勵措施：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179280" y="260280"/>
            <a:ext cx="885672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c00000"/>
                </a:solidFill>
                <a:latin typeface="Candara"/>
              </a:rPr>
              <a:t> </a:t>
            </a:r>
            <a:r>
              <a:rPr b="0" lang="en-US" sz="2800" spc="-1" strike="noStrike">
                <a:solidFill>
                  <a:srgbClr val="c00000"/>
                </a:solidFill>
                <a:latin typeface="Candara"/>
              </a:rPr>
              <a:t>14.</a:t>
            </a:r>
            <a:r>
              <a:rPr b="0" lang="zh-TW" sz="2800" spc="-1" strike="noStrike">
                <a:solidFill>
                  <a:srgbClr val="c00000"/>
                </a:solidFill>
                <a:latin typeface="Candara"/>
              </a:rPr>
              <a:t>發現同學衝突，未立即向師長報告，現場圍觀鼓譟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56320" indent="-25632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Candara"/>
              </a:rPr>
              <a:t>      </a:t>
            </a:r>
            <a:r>
              <a:rPr b="0" lang="zh-TW" sz="2800" spc="-1" strike="noStrike">
                <a:solidFill>
                  <a:srgbClr val="c00000"/>
                </a:solidFill>
                <a:latin typeface="Candara"/>
              </a:rPr>
              <a:t>者</a:t>
            </a:r>
            <a:r>
              <a:rPr b="0" lang="en-US" sz="2800" spc="-1" strike="noStrike">
                <a:solidFill>
                  <a:srgbClr val="c00000"/>
                </a:solidFill>
                <a:latin typeface="Candara"/>
              </a:rPr>
              <a:t>〈</a:t>
            </a:r>
            <a:r>
              <a:rPr b="0" lang="zh-TW" sz="2800" spc="-1" strike="noStrike">
                <a:solidFill>
                  <a:srgbClr val="c00000"/>
                </a:solidFill>
                <a:latin typeface="Candara"/>
              </a:rPr>
              <a:t>經教育局審核通過</a:t>
            </a:r>
            <a:r>
              <a:rPr b="0" lang="en-US" sz="2800" spc="-1" strike="noStrike">
                <a:solidFill>
                  <a:srgbClr val="c00000"/>
                </a:solidFill>
                <a:latin typeface="Candara"/>
              </a:rPr>
              <a:t>〉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56320" indent="-25632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73e87"/>
                </a:solidFill>
                <a:latin typeface="Candara"/>
              </a:rPr>
              <a:t>  </a:t>
            </a:r>
            <a:r>
              <a:rPr b="0" lang="en-US" sz="2800" spc="-1" strike="noStrike">
                <a:solidFill>
                  <a:srgbClr val="073e87"/>
                </a:solidFill>
                <a:latin typeface="Candara"/>
              </a:rPr>
              <a:t>15.</a:t>
            </a:r>
            <a:r>
              <a:rPr b="0" lang="zh-TW" sz="2800" spc="-1" strike="noStrike">
                <a:solidFill>
                  <a:srgbClr val="073e87"/>
                </a:solidFill>
                <a:latin typeface="Candara"/>
              </a:rPr>
              <a:t>具有相當於以上各目不良行為之一，合於記小過者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56320" indent="-25632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（三）大過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56320" indent="-25632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1.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定期考試或重大試場考試舞弊者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56320" indent="-25632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2.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參加幫派等不良組織或出入賭場等違法或不當場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56320" indent="-25632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         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所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56320" indent="-25632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3.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無照駕駛汽機車者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56320" indent="-25632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4.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入侵學校或公共網路進行資料竊取、竄改或刪改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56320" indent="-25632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           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破壞，情節重大者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56320" indent="-25632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5.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以肢體暴力傷害他人或以強暴、脅迫、恐嚇等手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56320" indent="-25632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           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段勒索他人財物者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56320" indent="-25632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250920" y="333000"/>
            <a:ext cx="864216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34360" indent="-23436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6.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對師長或他人有惡意侮辱、謾罵等言語上攻擊，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34360" indent="-23436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     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情節重大者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34360" indent="-23436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7.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違反網路使用或智慧財產權相關法令規定，影響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34360" indent="-23436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      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校譽情節重大者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34360" indent="-23436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8.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對師長或他人為性騷擾行為者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34360" indent="-2343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     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en-US" sz="2800" spc="-1" strike="noStrike">
                <a:solidFill>
                  <a:srgbClr val="c00000"/>
                </a:solidFill>
                <a:latin typeface="Candara"/>
              </a:rPr>
              <a:t>9.</a:t>
            </a:r>
            <a:r>
              <a:rPr b="0" lang="zh-TW" sz="2800" spc="-1" strike="noStrike">
                <a:solidFill>
                  <a:srgbClr val="c00000"/>
                </a:solidFill>
                <a:latin typeface="Candara"/>
              </a:rPr>
              <a:t>偷竊行為情節重大，且不知悔悟者。</a:t>
            </a:r>
            <a:r>
              <a:rPr b="0" lang="en-US" sz="2800" spc="-1" strike="noStrike">
                <a:solidFill>
                  <a:srgbClr val="c00000"/>
                </a:solidFill>
                <a:latin typeface="Candara"/>
              </a:rPr>
              <a:t>〈</a:t>
            </a:r>
            <a:r>
              <a:rPr b="0" lang="zh-TW" sz="2800" spc="-1" strike="noStrike">
                <a:solidFill>
                  <a:srgbClr val="c00000"/>
                </a:solidFill>
                <a:latin typeface="Candara"/>
              </a:rPr>
              <a:t>經教育局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34360" indent="-2343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Candara"/>
              </a:rPr>
              <a:t>          </a:t>
            </a:r>
            <a:r>
              <a:rPr b="0" lang="zh-TW" sz="2800" spc="-1" strike="noStrike">
                <a:solidFill>
                  <a:srgbClr val="c00000"/>
                </a:solidFill>
                <a:latin typeface="Candara"/>
              </a:rPr>
              <a:t>審核通過</a:t>
            </a:r>
            <a:r>
              <a:rPr b="0" lang="en-US" sz="2800" spc="-1" strike="noStrike">
                <a:solidFill>
                  <a:srgbClr val="c00000"/>
                </a:solidFill>
                <a:latin typeface="Candara"/>
              </a:rPr>
              <a:t>〉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34360" indent="-2343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Candara"/>
              </a:rPr>
              <a:t>    </a:t>
            </a:r>
            <a:r>
              <a:rPr b="0" lang="en-US" sz="2800" spc="-1" strike="noStrike">
                <a:solidFill>
                  <a:srgbClr val="c00000"/>
                </a:solidFill>
                <a:latin typeface="Candara"/>
              </a:rPr>
              <a:t>10.</a:t>
            </a:r>
            <a:r>
              <a:rPr b="0" lang="zh-TW" sz="2800" spc="-1" strike="noStrike">
                <a:solidFill>
                  <a:srgbClr val="c00000"/>
                </a:solidFill>
                <a:latin typeface="Candara"/>
              </a:rPr>
              <a:t>酗酒、賭博、吸菸、吸食或注射麻醉品，屢誡不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34360" indent="-2343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Candara"/>
              </a:rPr>
              <a:t>          </a:t>
            </a:r>
            <a:r>
              <a:rPr b="0" lang="zh-TW" sz="2800" spc="-1" strike="noStrike">
                <a:solidFill>
                  <a:srgbClr val="c00000"/>
                </a:solidFill>
                <a:latin typeface="Candara"/>
              </a:rPr>
              <a:t>改且影響校園安全或環境衛生者。</a:t>
            </a:r>
            <a:r>
              <a:rPr b="0" lang="en-US" sz="2800" spc="-1" strike="noStrike">
                <a:solidFill>
                  <a:srgbClr val="c00000"/>
                </a:solidFill>
                <a:latin typeface="Candara"/>
              </a:rPr>
              <a:t>〈</a:t>
            </a:r>
            <a:r>
              <a:rPr b="0" lang="zh-TW" sz="2800" spc="-1" strike="noStrike">
                <a:solidFill>
                  <a:srgbClr val="c00000"/>
                </a:solidFill>
                <a:latin typeface="Candara"/>
              </a:rPr>
              <a:t>經教育局審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34360" indent="-2343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Candara"/>
              </a:rPr>
              <a:t>          </a:t>
            </a:r>
            <a:r>
              <a:rPr b="0" lang="zh-TW" sz="2800" spc="-1" strike="noStrike">
                <a:solidFill>
                  <a:srgbClr val="c00000"/>
                </a:solidFill>
                <a:latin typeface="Candara"/>
              </a:rPr>
              <a:t>核通過</a:t>
            </a:r>
            <a:r>
              <a:rPr b="0" lang="en-US" sz="2800" spc="-1" strike="noStrike">
                <a:solidFill>
                  <a:srgbClr val="c00000"/>
                </a:solidFill>
                <a:latin typeface="Candara"/>
              </a:rPr>
              <a:t>〉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34360" indent="-2343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Candara"/>
              </a:rPr>
              <a:t>     </a:t>
            </a:r>
            <a:r>
              <a:rPr b="0" lang="en-US" sz="2800" spc="-1" strike="noStrike">
                <a:solidFill>
                  <a:srgbClr val="c00000"/>
                </a:solidFill>
                <a:latin typeface="Candara"/>
              </a:rPr>
              <a:t>11.</a:t>
            </a:r>
            <a:r>
              <a:rPr b="0" lang="zh-TW" sz="2800" spc="-1" strike="noStrike">
                <a:solidFill>
                  <a:srgbClr val="c00000"/>
                </a:solidFill>
                <a:latin typeface="Candara"/>
              </a:rPr>
              <a:t>住宿生就寢後不假外出或未經許可異性寢室者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34360" indent="-2343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Candara"/>
              </a:rPr>
              <a:t>        </a:t>
            </a:r>
            <a:r>
              <a:rPr b="0" lang="en-US" sz="2800" spc="-1" strike="noStrike">
                <a:solidFill>
                  <a:srgbClr val="c00000"/>
                </a:solidFill>
                <a:latin typeface="Candara"/>
              </a:rPr>
              <a:t>〈</a:t>
            </a:r>
            <a:r>
              <a:rPr b="0" lang="zh-TW" sz="2800" spc="-1" strike="noStrike">
                <a:solidFill>
                  <a:srgbClr val="c00000"/>
                </a:solidFill>
                <a:latin typeface="Candara"/>
              </a:rPr>
              <a:t>經教育局審核通過</a:t>
            </a:r>
            <a:r>
              <a:rPr b="0" lang="en-US" sz="2800" spc="-1" strike="noStrike">
                <a:solidFill>
                  <a:srgbClr val="c00000"/>
                </a:solidFill>
                <a:latin typeface="Candara"/>
              </a:rPr>
              <a:t>〉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34360" indent="-2343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           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 txBox="1"/>
          <p:nvPr/>
        </p:nvSpPr>
        <p:spPr>
          <a:xfrm>
            <a:off x="323640" y="260280"/>
            <a:ext cx="856908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23560" indent="-22356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12.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具有相當於以上各款之不良行為之一，合於記大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23560" indent="-22356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     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過者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23560" indent="-22356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（四）輔導管教目的所為之其他適當懲罰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23560" indent="-22356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23560" indent="-22356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600" spc="-1" strike="noStrike">
                <a:solidFill>
                  <a:srgbClr val="000000"/>
                </a:solidFill>
                <a:latin typeface="Candara"/>
              </a:rPr>
              <a:t>   </a:t>
            </a:r>
            <a:r>
              <a:rPr b="0" lang="zh-TW" sz="9600" spc="-1" strike="noStrike">
                <a:solidFill>
                  <a:srgbClr val="000000"/>
                </a:solidFill>
                <a:latin typeface="Candara"/>
              </a:rPr>
              <a:t>簡  報  完  畢</a:t>
            </a:r>
            <a:endParaRPr b="0" lang="en-US" sz="9600" spc="-1" strike="noStrike">
              <a:solidFill>
                <a:srgbClr val="073e87"/>
              </a:solidFill>
              <a:latin typeface="Candara"/>
            </a:endParaRPr>
          </a:p>
          <a:p>
            <a:pPr marL="223560" indent="-22356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600" spc="-1" strike="noStrike">
                <a:solidFill>
                  <a:srgbClr val="000000"/>
                </a:solidFill>
                <a:latin typeface="Candara"/>
              </a:rPr>
              <a:t>   </a:t>
            </a:r>
            <a:r>
              <a:rPr b="0" lang="zh-TW" sz="9600" spc="-1" strike="noStrike">
                <a:solidFill>
                  <a:srgbClr val="000000"/>
                </a:solidFill>
                <a:latin typeface="Candara"/>
              </a:rPr>
              <a:t>敬  請  指  教</a:t>
            </a:r>
            <a:endParaRPr b="0" lang="en-US" sz="96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179280" y="189000"/>
            <a:ext cx="8785440" cy="59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600" spc="-1" strike="noStrike">
                <a:solidFill>
                  <a:srgbClr val="000000"/>
                </a:solidFill>
                <a:latin typeface="Candara"/>
              </a:rPr>
              <a:t>     </a:t>
            </a:r>
            <a:endParaRPr b="0" lang="en-US" sz="96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0" y="0"/>
            <a:ext cx="9144000" cy="59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（一）口頭嘉勉或公開表揚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（二）嘉獎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服裝儀容經常整潔，合於規定，足為同學模範者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2.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禮儀周到足為同學模範者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3.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生活言行學業較前進步，有事實表現者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4.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拾獲有相當價值之財物不昧者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5.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與同學互助合作者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6.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能主動扶助尊長、老弱婦孺，有具體事蹟者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7.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愛護公物有具體事蹟者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8.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主動為公服務者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9.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領導同學為團體服務者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10.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擔任各級幹部滿一學期，且善盡職責者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11.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參加體育運動具有運動精神、運動道德，表現優良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50560" y="189000"/>
            <a:ext cx="8785080" cy="59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12.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參與校內活動確有成績表現者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13.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代表學校參加校外活動表現優良者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14.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具有相當於以上各目之優良行為之一，合於記嘉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         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獎者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（三）小功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行為誠正，有具體事實表現，增進校譽者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2.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倡導正當課餘活動成績優良者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3.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見義勇為能維護團體或同學權益者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4.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敬老扶弱，有顯著之事實表現者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5.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參加各種服務表現優異者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6.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熱心公益活動，有具體表現者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7.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維護團體秩序表現優異者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8.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擔任各級幹部滿一學期，且負責盡職表現優異者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0" y="189000"/>
            <a:ext cx="9144000" cy="59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9.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代表學校參加政府主管單位主辦市級性以上競賽，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        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成績特優或第一名者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10.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具有相當於以上各目之優良行為之一，合於記小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         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功者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（四）大功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愛護學校或同學，確有特殊事實表現，增進校譽者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2.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提供優良建議，並能率先力行，增進校譽者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3.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參加各項服務，表現卓越者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4.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代表學校參加政府主管單位主辦全國性以上競賽，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         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成績特優或第一名者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5.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具有相當於以上各目之優良行為之一，合於記大功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        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者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（五）除前項各款之獎勵外，得另給予其他適當獎勵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337680"/>
            <a:ext cx="8229600" cy="597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三、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學生行為不當且情節輕微者，應予糾正，並採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            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取適當之輔導與管教措施。學校採取適當之輔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            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導與管教措施而無效果時，得視學生違規情節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            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輕重，採取下列懲罰措施：</a:t>
            </a:r>
            <a:br>
              <a:rPr sz="2800"/>
            </a:b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（一）警告</a:t>
            </a:r>
            <a:br>
              <a:rPr sz="2800"/>
            </a:b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        </a:t>
            </a:r>
            <a:r>
              <a:rPr b="0" lang="en-US" sz="2800" spc="-1" strike="noStrike">
                <a:solidFill>
                  <a:srgbClr val="c00000"/>
                </a:solidFill>
                <a:latin typeface="Candara"/>
              </a:rPr>
              <a:t>1.</a:t>
            </a:r>
            <a:r>
              <a:rPr b="0" lang="zh-TW" sz="2800" spc="-1" strike="noStrike">
                <a:solidFill>
                  <a:srgbClr val="c00000"/>
                </a:solidFill>
                <a:latin typeface="Candara"/>
              </a:rPr>
              <a:t>無正當理由，曠課累計達四節課者</a:t>
            </a:r>
            <a:r>
              <a:rPr b="0" lang="en-US" sz="2800" spc="-1" strike="noStrike">
                <a:solidFill>
                  <a:srgbClr val="c00000"/>
                </a:solidFill>
                <a:latin typeface="Candara"/>
              </a:rPr>
              <a:t>〈</a:t>
            </a:r>
            <a:r>
              <a:rPr b="0" lang="zh-TW" sz="2800" spc="-1" strike="noStrike">
                <a:solidFill>
                  <a:srgbClr val="c00000"/>
                </a:solidFill>
                <a:latin typeface="Candara"/>
              </a:rPr>
              <a:t>經教育  </a:t>
            </a:r>
            <a:br>
              <a:rPr sz="2800"/>
            </a:br>
            <a:r>
              <a:rPr b="0" lang="en-US" sz="2800" spc="-1" strike="noStrike">
                <a:solidFill>
                  <a:srgbClr val="c00000"/>
                </a:solidFill>
                <a:latin typeface="Candara"/>
              </a:rPr>
              <a:t>              </a:t>
            </a:r>
            <a:r>
              <a:rPr b="0" lang="zh-TW" sz="2800" spc="-1" strike="noStrike">
                <a:solidFill>
                  <a:srgbClr val="c00000"/>
                </a:solidFill>
                <a:latin typeface="Candara"/>
              </a:rPr>
              <a:t>局審核通過</a:t>
            </a:r>
            <a:r>
              <a:rPr b="0" lang="en-US" sz="2800" spc="-1" strike="noStrike">
                <a:solidFill>
                  <a:srgbClr val="c00000"/>
                </a:solidFill>
                <a:latin typeface="Candara"/>
              </a:rPr>
              <a:t>〉</a:t>
            </a:r>
            <a:br>
              <a:rPr sz="2800"/>
            </a:br>
            <a:r>
              <a:rPr b="0" lang="en-US" sz="2800" spc="-1" strike="noStrike">
                <a:solidFill>
                  <a:srgbClr val="c00000"/>
                </a:solidFill>
                <a:latin typeface="Candara"/>
              </a:rPr>
              <a:t>          </a:t>
            </a:r>
            <a:r>
              <a:rPr b="0" lang="en-US" sz="2800" spc="-1" strike="noStrike">
                <a:solidFill>
                  <a:srgbClr val="c00000"/>
                </a:solidFill>
                <a:latin typeface="Candara"/>
              </a:rPr>
              <a:t>2.</a:t>
            </a:r>
            <a:r>
              <a:rPr b="0" lang="zh-TW" sz="2800" spc="-1" strike="noStrike">
                <a:solidFill>
                  <a:srgbClr val="c00000"/>
                </a:solidFill>
                <a:latin typeface="Candara"/>
              </a:rPr>
              <a:t>無正當理由，遲到未實施站立反省累計達三</a:t>
            </a:r>
            <a:br>
              <a:rPr sz="2800"/>
            </a:br>
            <a:r>
              <a:rPr b="0" lang="en-US" sz="2800" spc="-1" strike="noStrike">
                <a:solidFill>
                  <a:srgbClr val="c00000"/>
                </a:solidFill>
                <a:latin typeface="Candara"/>
              </a:rPr>
              <a:t>              </a:t>
            </a:r>
            <a:r>
              <a:rPr b="0" lang="zh-TW" sz="2800" spc="-1" strike="noStrike">
                <a:solidFill>
                  <a:srgbClr val="c00000"/>
                </a:solidFill>
                <a:latin typeface="Candara"/>
              </a:rPr>
              <a:t>次者</a:t>
            </a:r>
            <a:r>
              <a:rPr b="0" lang="en-US" sz="2800" spc="-1" strike="noStrike">
                <a:solidFill>
                  <a:srgbClr val="c00000"/>
                </a:solidFill>
                <a:latin typeface="Candara"/>
              </a:rPr>
              <a:t>〈</a:t>
            </a:r>
            <a:r>
              <a:rPr b="0" lang="zh-TW" sz="2800" spc="-1" strike="noStrike">
                <a:solidFill>
                  <a:srgbClr val="c00000"/>
                </a:solidFill>
                <a:latin typeface="Candara"/>
              </a:rPr>
              <a:t>經教育局審核通過</a:t>
            </a:r>
            <a:r>
              <a:rPr b="0" lang="en-US" sz="2800" spc="-1" strike="noStrike">
                <a:solidFill>
                  <a:srgbClr val="c00000"/>
                </a:solidFill>
                <a:latin typeface="Candara"/>
              </a:rPr>
              <a:t>〉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3.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未依規定時間繳交作業，經催繳仍未改善者。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250920" y="260280"/>
            <a:ext cx="864216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4.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未依校園行動電話使用規則違規使用手機者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5.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違反交通規則或被無照駕駛同學載乘者者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6.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違反服裝儀容規定或內務不整潔，經勸告仍不改正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        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者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7.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塗改或冒用師長名義於點名簿、請假單、成績單或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       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其他資料者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8.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團體清潔工作不盡職，經勸告仍不改正者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9.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擔任班級幹部敷衍塞責，嚴重影響工作推展者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10.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攜帶或公開刀械等違禁物品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(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如兒童及少年福利與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      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權益保障法第四十三條所 揭禁止行為所列之物品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)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11.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集會無故不參加或中途離開者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12.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欺騙師長，有具體事實者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532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13.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破壞環境衛生情節輕微者。</a:t>
            </a:r>
            <a:br>
              <a:rPr sz="2800"/>
            </a:b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14.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因過失造成公物毀損，未能主動報告尋求解決者</a:t>
            </a:r>
            <a:br>
              <a:rPr sz="2800"/>
            </a:b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15.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對他人不當侵犯隱私、言語或態度上騷擾有具體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       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事實者</a:t>
            </a:r>
            <a:br>
              <a:rPr sz="2800"/>
            </a:b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16.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未經同意借取或占有他人財物，有明確事實者。</a:t>
            </a:r>
            <a:br>
              <a:rPr sz="2800"/>
            </a:b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17.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作品抄襲經他人檢舉，有具體事實者。</a:t>
            </a:r>
            <a:br>
              <a:rPr sz="2800"/>
            </a:b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18.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在走廊、樓梯、教室內從事奔跑、球類運動或其  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       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他行為危及他人安全者。</a:t>
            </a:r>
            <a:br>
              <a:rPr sz="2800"/>
            </a:b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19.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上課、團體活動或集會時不當行為影響秩序者。</a:t>
            </a:r>
            <a:br>
              <a:rPr sz="2800"/>
            </a:b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20.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在公共場所或乘坐大眾運輸工具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(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含校車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)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影響秩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        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序，不遵守團體規範者。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0" y="260280"/>
            <a:ext cx="88200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42640" indent="-24264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73e87"/>
                </a:solidFill>
                <a:latin typeface="Candara"/>
              </a:rPr>
              <a:t>  </a:t>
            </a:r>
            <a:r>
              <a:rPr b="0" lang="en-US" sz="2800" spc="-1" strike="noStrike">
                <a:solidFill>
                  <a:srgbClr val="c00000"/>
                </a:solidFill>
                <a:latin typeface="Candara"/>
              </a:rPr>
              <a:t>21.</a:t>
            </a:r>
            <a:r>
              <a:rPr b="0" lang="zh-TW" sz="2800" spc="-1" strike="noStrike">
                <a:solidFill>
                  <a:srgbClr val="c00000"/>
                </a:solidFill>
                <a:latin typeface="Candara"/>
              </a:rPr>
              <a:t>禮貌不周，經勸導後仍不知改正者。</a:t>
            </a:r>
            <a:r>
              <a:rPr b="0" lang="en-US" sz="2800" spc="-1" strike="noStrike">
                <a:solidFill>
                  <a:srgbClr val="c00000"/>
                </a:solidFill>
                <a:latin typeface="Candara"/>
              </a:rPr>
              <a:t>〈</a:t>
            </a:r>
            <a:r>
              <a:rPr b="0" lang="zh-TW" sz="2800" spc="-1" strike="noStrike">
                <a:solidFill>
                  <a:srgbClr val="c00000"/>
                </a:solidFill>
                <a:latin typeface="Candara"/>
              </a:rPr>
              <a:t>經教育局審   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42640" indent="-24264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Candara"/>
              </a:rPr>
              <a:t>       </a:t>
            </a:r>
            <a:r>
              <a:rPr b="0" lang="zh-TW" sz="2800" spc="-1" strike="noStrike">
                <a:solidFill>
                  <a:srgbClr val="c00000"/>
                </a:solidFill>
                <a:latin typeface="Candara"/>
              </a:rPr>
              <a:t>核通過</a:t>
            </a:r>
            <a:r>
              <a:rPr b="0" lang="en-US" sz="2800" spc="-1" strike="noStrike">
                <a:solidFill>
                  <a:srgbClr val="c00000"/>
                </a:solidFill>
                <a:latin typeface="Candara"/>
              </a:rPr>
              <a:t>〉</a:t>
            </a:r>
            <a:br>
              <a:rPr sz="2800"/>
            </a:br>
            <a:r>
              <a:rPr b="0" lang="en-US" sz="2800" spc="-1" strike="noStrike">
                <a:solidFill>
                  <a:srgbClr val="c00000"/>
                </a:solidFill>
                <a:latin typeface="Candara"/>
              </a:rPr>
              <a:t> </a:t>
            </a:r>
            <a:r>
              <a:rPr b="0" lang="en-US" sz="2800" spc="-1" strike="noStrike">
                <a:solidFill>
                  <a:srgbClr val="c00000"/>
                </a:solidFill>
                <a:latin typeface="Candara"/>
              </a:rPr>
              <a:t>22.</a:t>
            </a:r>
            <a:r>
              <a:rPr b="0" lang="zh-TW" sz="2800" spc="-1" strike="noStrike">
                <a:solidFill>
                  <a:srgbClr val="c00000"/>
                </a:solidFill>
                <a:latin typeface="Candara"/>
              </a:rPr>
              <a:t>不聽班級幹部勸告者。</a:t>
            </a:r>
            <a:r>
              <a:rPr b="0" lang="en-US" sz="2800" spc="-1" strike="noStrike">
                <a:solidFill>
                  <a:srgbClr val="c00000"/>
                </a:solidFill>
                <a:latin typeface="Candara"/>
              </a:rPr>
              <a:t>〈</a:t>
            </a:r>
            <a:r>
              <a:rPr b="0" lang="zh-TW" sz="2800" spc="-1" strike="noStrike">
                <a:solidFill>
                  <a:srgbClr val="c00000"/>
                </a:solidFill>
                <a:latin typeface="Candara"/>
              </a:rPr>
              <a:t>經教育局審核通過</a:t>
            </a:r>
            <a:r>
              <a:rPr b="0" lang="en-US" sz="2800" spc="-1" strike="noStrike">
                <a:solidFill>
                  <a:srgbClr val="c00000"/>
                </a:solidFill>
                <a:latin typeface="Candara"/>
              </a:rPr>
              <a:t>〉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23.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具有相當於以上各目之不良行為之一，合於記警告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42640" indent="-24264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       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者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42640" indent="-24264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（二）小過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42640" indent="-24264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1.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同一學期中再犯前款之規定者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42640" indent="-24264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2.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不假離校外出者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42640" indent="-24264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3.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課堂平時考試舞弊者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42640" indent="-24264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4.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冒用他人名義致損及他人隱私或權益，有具體事實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42640" indent="-24264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      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者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42640" indent="-24264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5.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提供自己或他人使用兒童及少年福利與權益保障法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42640" indent="-24264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      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第四十三條所揭禁止行為所列之物品。</a:t>
            </a:r>
            <a:r>
              <a:rPr b="0" lang="zh-TW" sz="2800" spc="-1" strike="noStrike">
                <a:solidFill>
                  <a:srgbClr val="073e87"/>
                </a:solidFill>
                <a:latin typeface="Candara"/>
              </a:rPr>
              <a:t>         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42640" indent="-24264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179280" y="189000"/>
            <a:ext cx="8785440" cy="59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240120" indent="-24012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6.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破壞公物或公告物品，影響校園工作推展或安全維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40120" indent="-24012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      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護者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40120" indent="-24012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7.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以肢體行為侵犯他人者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40120" indent="-24012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8.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於公開場域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(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含網路公共空間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)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張貼散布不實言論或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40120" indent="-24012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      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不雅字眼，攻擊或毀謗他人者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40120" indent="-24012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9.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竊取他人財物，有具體事實者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40120" indent="-24012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10.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蓄意聚眾，對師長或他人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(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同儕、校外人士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)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有不當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40120" indent="-240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         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侵犯隱私、言語或態度上騷擾之具體事實者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40120" indent="-24012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en-US" sz="2800" spc="-1" strike="noStrike">
                <a:solidFill>
                  <a:srgbClr val="c00000"/>
                </a:solidFill>
                <a:latin typeface="Candara"/>
              </a:rPr>
              <a:t>11.</a:t>
            </a:r>
            <a:r>
              <a:rPr b="0" lang="zh-TW" sz="2800" spc="-1" strike="noStrike">
                <a:solidFill>
                  <a:srgbClr val="c00000"/>
                </a:solidFill>
                <a:latin typeface="Candara"/>
              </a:rPr>
              <a:t>不服從糾察交通服務隊或經班級幹部糾正不聽者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40120" indent="-240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Candara"/>
              </a:rPr>
              <a:t>       </a:t>
            </a:r>
            <a:r>
              <a:rPr b="0" lang="en-US" sz="2800" spc="-1" strike="noStrike">
                <a:solidFill>
                  <a:srgbClr val="c00000"/>
                </a:solidFill>
                <a:latin typeface="Candara"/>
              </a:rPr>
              <a:t>〈</a:t>
            </a:r>
            <a:r>
              <a:rPr b="0" lang="zh-TW" sz="2800" spc="-1" strike="noStrike">
                <a:solidFill>
                  <a:srgbClr val="c00000"/>
                </a:solidFill>
                <a:latin typeface="Candara"/>
              </a:rPr>
              <a:t>經教育局審核通過</a:t>
            </a:r>
            <a:r>
              <a:rPr b="0" lang="en-US" sz="2800" spc="-1" strike="noStrike">
                <a:solidFill>
                  <a:srgbClr val="c00000"/>
                </a:solidFill>
                <a:latin typeface="Candara"/>
              </a:rPr>
              <a:t>〉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40120" indent="-24012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Candara"/>
              </a:rPr>
              <a:t> </a:t>
            </a:r>
            <a:r>
              <a:rPr b="0" lang="en-US" sz="2800" spc="-1" strike="noStrike">
                <a:solidFill>
                  <a:srgbClr val="c00000"/>
                </a:solidFill>
                <a:latin typeface="Candara"/>
              </a:rPr>
              <a:t>12.</a:t>
            </a:r>
            <a:r>
              <a:rPr b="0" lang="zh-TW" sz="2800" spc="-1" strike="noStrike">
                <a:solidFill>
                  <a:srgbClr val="c00000"/>
                </a:solidFill>
                <a:latin typeface="Candara"/>
              </a:rPr>
              <a:t>經師長同意私自進入學校管制處所</a:t>
            </a:r>
            <a:r>
              <a:rPr b="0" lang="en-US" sz="2800" spc="-1" strike="noStrike">
                <a:solidFill>
                  <a:srgbClr val="c00000"/>
                </a:solidFill>
                <a:latin typeface="Candara"/>
              </a:rPr>
              <a:t>〈</a:t>
            </a:r>
            <a:r>
              <a:rPr b="0" lang="zh-TW" sz="2800" spc="-1" strike="noStrike">
                <a:solidFill>
                  <a:srgbClr val="c00000"/>
                </a:solidFill>
                <a:latin typeface="Candara"/>
              </a:rPr>
              <a:t>經教育局審核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40120" indent="-24012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Candara"/>
              </a:rPr>
              <a:t>      </a:t>
            </a:r>
            <a:r>
              <a:rPr b="0" lang="zh-TW" sz="2800" spc="-1" strike="noStrike">
                <a:solidFill>
                  <a:srgbClr val="c00000"/>
                </a:solidFill>
                <a:latin typeface="Candara"/>
              </a:rPr>
              <a:t>通過</a:t>
            </a:r>
            <a:r>
              <a:rPr b="0" lang="en-US" sz="2800" spc="-1" strike="noStrike">
                <a:solidFill>
                  <a:srgbClr val="c00000"/>
                </a:solidFill>
                <a:latin typeface="Candara"/>
              </a:rPr>
              <a:t>〉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40120" indent="-24012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Candara"/>
              </a:rPr>
              <a:t>13.</a:t>
            </a:r>
            <a:r>
              <a:rPr b="0" lang="zh-TW" sz="2800" spc="-1" strike="noStrike">
                <a:solidFill>
                  <a:srgbClr val="c00000"/>
                </a:solidFill>
                <a:latin typeface="Candara"/>
              </a:rPr>
              <a:t>住宿生違反宿舍規定者。</a:t>
            </a:r>
            <a:r>
              <a:rPr b="0" lang="en-US" sz="2800" spc="-1" strike="noStrike">
                <a:solidFill>
                  <a:srgbClr val="c00000"/>
                </a:solidFill>
                <a:latin typeface="Candara"/>
              </a:rPr>
              <a:t>〈</a:t>
            </a:r>
            <a:r>
              <a:rPr b="0" lang="zh-TW" sz="2800" spc="-1" strike="noStrike">
                <a:solidFill>
                  <a:srgbClr val="c00000"/>
                </a:solidFill>
                <a:latin typeface="Candara"/>
              </a:rPr>
              <a:t>經教育局審核通過</a:t>
            </a:r>
            <a:r>
              <a:rPr b="0" lang="en-US" sz="2800" spc="-1" strike="noStrike">
                <a:solidFill>
                  <a:srgbClr val="c00000"/>
                </a:solidFill>
                <a:latin typeface="Candara"/>
              </a:rPr>
              <a:t>〉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40120" indent="-24012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5T10:18:24Z</dcterms:created>
  <dc:creator>ai1467</dc:creator>
  <dc:description/>
  <dc:language>en-US</dc:language>
  <cp:lastModifiedBy>User</cp:lastModifiedBy>
  <dcterms:modified xsi:type="dcterms:W3CDTF">2014-06-27T04:30:06Z</dcterms:modified>
  <cp:revision>33</cp:revision>
  <dc:subject/>
  <dc:title>新北市立金山高中101年校務會議學務處提案1─教師輔導與管教學生辦法</dc:title>
</cp:coreProperties>
</file>